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901-AE00-4C0F-A401-9D117648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5DB-EF3B-4FDC-9940-750954C9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568-7263-4711-A5F5-D55EB4CA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1AC-257F-45FF-9CB1-70364C57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5A6E-1E2F-4850-897A-DB27E25F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4FC5-7304-4EAD-B87C-D1674766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18A2-0343-43B7-BD68-3968A505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65BF-2BC3-47C0-B2F4-FDFC24C7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D18D-3635-4C6C-8751-8D453880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6873-8544-423D-874D-B6A7EA25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C0B3-E538-41BF-8749-982DEF13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B2D-9333-40FB-AA09-82B7F11D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8B77-8FB3-4D25-8490-ADF11B52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A3AE-5781-4C2B-BF90-434431B2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216C-17F8-4CA1-BBE5-1E4C081A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C327-2DF4-4B51-901F-C2CD4DB6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987D-66B0-4F45-AAAE-52B40837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BC8-35F2-498A-9B0C-BEB77DC0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8B0-B09B-4A7F-8A4F-DFD82B58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1CE-D694-4760-9098-473E4C4C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0B2-0FE1-4419-BBBC-FCAF442F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497-071C-47EA-B277-98EC3D57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200-F868-4B79-8FE0-E3280F46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362-89D2-4E95-92AC-9ED76E28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2325-90B1-42AF-B9F4-D1B5F8A65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001D-5EF1-4177-8350-01A5851FC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drock Architectural Q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n Going Discussion of Architectural Issues in the Redrock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for “Design by Contrac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1135080" cy="1592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86600" y="2971800"/>
            <a:ext cx="1135080" cy="159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76720" y="2743200"/>
            <a:ext cx="2349360" cy="240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52480" y="53341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ent Devel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1280" y="52578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7400" y="53341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10080" y="38862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8862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78960" y="338472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21600" y="33847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for “Design by Contract”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ation and contract (interface) can be developed at different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lient developer doesn’t have to wait for the implementation developer to finish implemen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s workflow bottlenecks when working with depend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ystem components can be developed in parallel yielding better through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for multiple implementations of the contr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2971800"/>
            <a:ext cx="213372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ract (Interfa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429000"/>
            <a:ext cx="1219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op Pro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5791320"/>
            <a:ext cx="2895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4191120"/>
            <a:ext cx="175248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moting Pro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886200"/>
            <a:ext cx="175248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ck Proxy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t Te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5791320"/>
            <a:ext cx="281916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Tw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0" y="35812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5791320"/>
            <a:ext cx="251460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Th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409720" y="3580920"/>
            <a:ext cx="2133720" cy="22100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790960" y="3276360"/>
            <a:ext cx="1981080" cy="609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86000" y="3352320"/>
            <a:ext cx="1371600" cy="3049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09680" y="3886200"/>
            <a:ext cx="0" cy="18288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334120" y="464796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600" y="3962520"/>
            <a:ext cx="209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curity Asp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ception Handling Asp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erformance Metr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mory Metr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2000" y="4724280"/>
            <a:ext cx="208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jb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ml text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ml binary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Java serialization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b services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400440" y="274320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81640" y="2622600"/>
            <a:ext cx="164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Means implemen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lows for Restricted Roles in Object Desig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s implementation developer freedom to extend an implementing object beyond an interface contra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ricts roles to client nee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4191120"/>
            <a:ext cx="167652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Valid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read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write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4191120"/>
            <a:ext cx="25146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chemaSymbolMapProvi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SymbolMap(ke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5410080"/>
            <a:ext cx="1676160" cy="1295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Reg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Registry(…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read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write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SymbolMap(ke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4114800"/>
            <a:ext cx="167652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l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Xml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Id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VhimVersion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486400"/>
            <a:ext cx="1676520" cy="129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mlFil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Xml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Id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VhimVersion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ahoma"/>
              </a:rPr>
              <a:t>setSomeDependency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5120" y="52574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486040" y="5181120"/>
            <a:ext cx="1600200" cy="2286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86600" y="5105520"/>
            <a:ext cx="609480" cy="3045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5:12:31Z</dcterms:created>
  <dc:creator>CACI</dc:creator>
  <dc:description/>
  <dc:language>en-US</dc:language>
  <cp:lastModifiedBy>CACI</cp:lastModifiedBy>
  <dcterms:modified xsi:type="dcterms:W3CDTF">2006-10-18T19:22:04Z</dcterms:modified>
  <cp:revision>7</cp:revision>
  <dc:subject/>
  <dc:title>Redrock I8 Code Review</dc:title>
</cp:coreProperties>
</file>